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3358-033E-4AD2-AB8C-DCC1F3A5F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CF10-B2FD-4F13-8756-0932D2501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B46B-4439-4938-8AD0-1556AF20C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CDE3-88A7-428C-98E2-E2371F5B9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1A7E-E064-4DC7-8504-50435940E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DEF0-23C8-45FF-B584-47EE797E5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64A9-4481-434C-8C12-566371F36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5650-E783-46B1-B733-D23D1FF61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8BB3-2978-460B-8F9C-726245679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EEC6-1E9E-48D4-8E98-2AAF45B38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9774-53D8-4B1E-B2F3-12EE0C8E0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B18-CC6B-48C1-BC3E-C01299918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458-0D13-4D0D-A372-B4920A1C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7B4-FD8B-4E85-A37C-F53E09CC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F96-0C49-4CC9-AAFA-C7B4B671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57F-FFA9-40B5-B3E4-BAD015C0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0CD-0450-4D4D-940D-084C18C3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1B2-7ED1-4D16-959A-8B3A538E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FD0-3182-4BED-8FB9-98E61CE6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C16-C8DD-4847-8875-C61197D7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9A1-E2E7-43A3-BED0-8F02C2FC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131-F4EC-4096-B01B-89DD2D1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A53-C6CA-4382-BAB1-633ADDF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FB0-4A7E-40B0-A305-3E901A86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802A-DB26-4330-9CF2-C64D9BA6F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et a Job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 Essent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Portfolio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gie Swa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Goals for my stud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 practice real world skills in the target langu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 prepare for the global society of the 2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entury by utilizing technology and employing a second language to reach a personal 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est for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comes a time when all young people have to take that leap into adulthood. In this unit students will prepare for this monumental dive by going through the process of getting a job. They will choose a career, research key information about the career, do a job search for openings in the geographic area of their choice, write a letter of application and a résumé, schedule an interview, and go through a formal intervie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-Framing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e future ho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reer do you want to pursue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obtain a job in this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ducation and/or training are required for this care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search for jobs on the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write a letter of ap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write a résum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questions are typically asked in a job intervi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ginia S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II.2  The student will demonstrate skills necessary to initiate, sustain, and close oral and written exchanges in Spanish, applying familiar vocabulary and structures to new situ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Participate in sustained exchanges that reflect past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, and future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Exchange detailed information on familiar topics via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rsations, notes, letters, or e-ma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Use paraphrasing, circumlocution, and nonverb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viors to convey and comprehend message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-appropriate Spani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, Media and Technology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T (Information, Communications and Technology)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echnology as a tool to research, organize, evaluate and communicate information, and the possession of a fundamental understanding of the ethical/legal issues surrounding the access and use of inform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and Career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tivity and Account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ting and meeting high standards and goals for delivering quality work on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nstrating diligence and a positive work ethic (e.g., being punctual and reliabl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eds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goals for this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d ways to show my students a personal connection between what they are learning and their personal fu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use technology to create more interest in classroom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learn more about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 Skills and how to incorporate them into my unit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6:04:01Z</dcterms:created>
  <dc:creator>mswanger</dc:creator>
  <dc:description/>
  <dc:language>en-US</dc:language>
  <cp:lastModifiedBy>mswanger</cp:lastModifiedBy>
  <dcterms:modified xsi:type="dcterms:W3CDTF">2009-04-17T22:45:57Z</dcterms:modified>
  <cp:revision>21</cp:revision>
  <dc:subject/>
  <dc:title>Intel Essentials</dc:title>
</cp:coreProperties>
</file>